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6470640"/>
            <a:ext cx="360" cy="143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E21-0682-490F-97FA-5167D82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403-E62A-4309-BD6A-CA6D5ECE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D77-EE4F-47A2-AE44-296A049B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825-4759-416A-B7B5-FD09D72C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E45-00C5-43C9-80BD-591493DB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BF7-A6D3-4FB5-B836-B7A036D6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352-B31A-45DB-BCEB-11DEBE95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5AA-A2D6-4476-B360-AAE9A5BF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71D-9B6A-487B-951F-83349BA5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EFD-67A4-49BB-A931-2754293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3B2-FCB9-4B5D-9271-F9C42B96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999-B28B-44AB-BA70-C4BB17F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A60D8B-B981-4862-91C0-DDF3A2DEE6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dans la vie d’Homer Simp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0636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2271600" cy="235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427640" y="404640"/>
            <a:ext cx="47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dans la vie d’Homer Simp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7920" y="-179280"/>
            <a:ext cx="836280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verbs were different?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an you think of anything that might be common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76720" y="6126120"/>
            <a:ext cx="54100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191952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07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DR &amp; MRS VAN DER TR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1120" y="870120"/>
            <a:ext cx="82296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re are certain verbs in the passé composé which take être as their auxillary verb instead of avoir                                                                        What other verbs use être as their auxilla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se are verbs that are to do with movement (e.g. aller, retourner, venir, sortir)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700360" y="4140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920" y="29052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.g. Homer est tomb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9562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t’s agree with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n verbs take être as their helping verb, it must agree with the person doing th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suis allé(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 es allé(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est al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le est allé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sommes allé(e)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us êtes allé(e)(s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s sont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les sont al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329080" y="2637000"/>
            <a:ext cx="262260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omer et Bart sont monté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-360360" y="1628640"/>
            <a:ext cx="950436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ge et Maggie sont allé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aux magasins et sont tombé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36018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ggie est resté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81916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r. Nick Riviera est entré et a dit “Bonjour tout le mond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248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 &amp; Mrs. Van Der Tramp is a name we use to remember the verbs that take</a:t>
            </a:r>
            <a:r>
              <a:rPr b="0" lang="en-GB" sz="40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7056360" cy="521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0" y="2276640"/>
            <a:ext cx="2516040" cy="27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verbs that tak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 the passé composé (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9966ff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0066cc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V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9966ff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cc"/>
                </a:solidFill>
                <a:latin typeface="Comic Sans MS"/>
              </a:rPr>
              <a:t>T</a:t>
            </a: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are verbs of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200" y="900000"/>
            <a:ext cx="8893440" cy="70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29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9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cendre (to descend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6633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venir (to become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9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trer (to go back)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3366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trer (to enter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urir (to die)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ourner (to return)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9966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venir (to come back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66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mber (to fall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tir (to go out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2323dc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ter (to stay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Comic Sans M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ir (to come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ae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river (to arrive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l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to go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ter (to climb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ître (to be born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6633"/>
                </a:solidFill>
                <a:latin typeface="Comic Sans M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ir (to leave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only verbs which have an irregular past participl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ître &gt;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né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mourir &gt;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or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(de)/(re)/venir &gt;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v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hat are the three ways we would form the other regular p.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ut d’abord, Homer est allé au Kwik-e-mart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3529080" cy="275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2381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that’s all you need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618920"/>
            <a:ext cx="8507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duisez les phrases suiv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 est allée à l’é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s êtes tombée, et vous avez fait mal au gen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suis devenue prof de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m'amusais avec mes copains quand ma mère est 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3851280" y="2349360"/>
            <a:ext cx="3529080" cy="649440"/>
          </a:xfrm>
          <a:prstGeom prst="wedgeRoundRectCallout">
            <a:avLst>
              <a:gd name="adj1" fmla="val -96648"/>
              <a:gd name="adj2" fmla="val -878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oo-ho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748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a achété les donuts pour son petit dé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2081520" cy="260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2098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l est arrivé au travail, au réacteur nucléaire de Springfield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l est resté au travail, et a travaillé très d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19272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is, il est rentré  à la maison, pour regarder la télé, et m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55640" y="2954160"/>
            <a:ext cx="3095640" cy="2365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64000" y="2708280"/>
            <a:ext cx="243396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l est sorti de chez lui, et il est entré chez M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867040" cy="404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611280" y="2141640"/>
            <a:ext cx="424800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a bu quelques bières avec Barney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511800" cy="262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t, finalement, il est rétourné chez lui pour dor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715000" cy="398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yboud-Peron</cp:lastModifiedBy>
  <dcterms:modified xsi:type="dcterms:W3CDTF">2008-08-26T04:23:25Z</dcterms:modified>
  <cp:revision>2</cp:revision>
  <dc:subject/>
  <dc:title>Une journée dans la vie d’Homer Simpson</dc:title>
</cp:coreProperties>
</file>